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02F0-A23E-4F81-8007-01C37362A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173C-D249-453C-A6FC-2F0CDF16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0715-7D1A-4863-B0B2-AC2C42F57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0C4C-5C3B-4DE6-87A5-BF70E6DE3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37BD-22EA-4C28-AF7D-5BF51B59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C172-AE7F-40DF-A81F-0D112263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F46F-73AD-4755-B9B8-307CD6C1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4F97-7BB1-4C66-BB80-44083C5E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63F2-92A4-47A0-9A0C-D6187A43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E1C4-64F5-4447-8BB1-57EEA10A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0636-FDF0-483A-AAEE-90206127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AC84-4A10-432E-A841-317C4B03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3F60-191F-44B7-B003-2FD5EB67C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30477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42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4T19:58:37Z</dcterms:created>
  <dc:creator>Maxwell Matt</dc:creator>
  <dc:description/>
  <dc:language>en-US</dc:language>
  <cp:lastModifiedBy>Maxwell Matt</cp:lastModifiedBy>
  <dcterms:modified xsi:type="dcterms:W3CDTF">2008-11-12T19:37:41Z</dcterms:modified>
  <cp:revision>2</cp:revision>
  <dc:subject/>
  <dc:title>PowerPoint Presentation</dc:title>
</cp:coreProperties>
</file>